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8260-9E14-4BC7-AF34-9C6CDF66A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81360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3732120"/>
            <a:ext cx="81360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4426-764B-4D90-9061-EB2FA1018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244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39F3-FED6-4EE1-9DBA-F86C59514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6760" y="83628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57880" y="83628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373212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6760" y="373212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57880" y="373212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38CD-C83E-42E7-ADBD-75C4F8000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83628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55520" y="-73080"/>
            <a:ext cx="56768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83628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9480-01B5-478A-8475-5C53D4D3A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44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32120"/>
            <a:ext cx="81360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81360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32120"/>
            <a:ext cx="81360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44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6760" y="83628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7880" y="83628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3212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06760" y="373212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7880" y="3732120"/>
            <a:ext cx="2619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6F4D-3285-4946-A982-61A6D9ECE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E06D-6362-4FD1-A3F6-E7183724E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E96A-4548-4114-9B5B-819211C9F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55520" y="-73080"/>
            <a:ext cx="56768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C94C-5C78-4C92-AD3A-CD2FE4EE6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1379-CD15-4C59-9FDA-40BA80E4E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4440" y="373212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CFC0-583E-45EB-AD93-156E103D5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440" y="836280"/>
            <a:ext cx="39700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732120"/>
            <a:ext cx="81360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C619-E05D-4092-9D44-906997C86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9640" y="25560"/>
            <a:ext cx="8655120" cy="6858000"/>
          </a:xfrm>
          <a:prstGeom prst="roundRect">
            <a:avLst>
              <a:gd name="adj" fmla="val 48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4295880" y="302436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755640" y="83628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66600" y="6300360"/>
            <a:ext cx="676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1FC58D-DDD4-45B3-A9E5-2DFEF9886A07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755640" y="690480"/>
            <a:ext cx="8137440" cy="12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6" name=""/>
          <p:cNvSpPr/>
          <p:nvPr/>
        </p:nvSpPr>
        <p:spPr>
          <a:xfrm>
            <a:off x="755640" y="6445080"/>
            <a:ext cx="81374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40720" y="6489720"/>
            <a:ext cx="1241280" cy="333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179280" y="912960"/>
            <a:ext cx="9758160" cy="59706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55640" y="6521400"/>
            <a:ext cx="6624720" cy="3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Laboratorio di Human-Computer Interaction: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Robotic Games Design 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22200" y="836640"/>
            <a:ext cx="9920160" cy="62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79280" y="120600"/>
          <a:ext cx="72072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20600"/>
                    <a:ext cx="7207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03520" y="765000"/>
            <a:ext cx="5689440" cy="1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3840"/>
            <a:ext cx="914400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480" bIns="46800" anchor="t">
            <a:spAutoFit/>
          </a:bodyPr>
          <a:p>
            <a:pPr algn="ctr">
              <a:lnSpc>
                <a:spcPct val="98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Tw Cen MT"/>
                <a:ea typeface="DejaVu Sans"/>
              </a:rPr>
              <a:t>POLITECNICO DI MILANO</a:t>
            </a:r>
            <a:endParaRPr b="0" lang="en-US" sz="36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83628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5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55520" y="-73080"/>
            <a:ext cx="56768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6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2239920"/>
            <a:ext cx="66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016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7200" spc="-1" strike="noStrike" u="sng">
                <a:solidFill>
                  <a:srgbClr val="3333cc"/>
                </a:solidFill>
                <a:uFillTx/>
                <a:latin typeface="Times New Roman"/>
                <a:ea typeface="DejaVu Sans"/>
              </a:rPr>
              <a:t>RoboWII 2.1</a:t>
            </a:r>
            <a:endParaRPr b="0" lang="en-US" sz="72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5445000"/>
            <a:ext cx="6767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Alessandro Marin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	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	</a:t>
            </a: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Matricola: 725513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Diego Mereghetti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	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	</a:t>
            </a: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Matricola: 725526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789360"/>
            <a:ext cx="91440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 u="sng">
                <a:solidFill>
                  <a:srgbClr val="3333cc"/>
                </a:solidFill>
                <a:uFillTx/>
                <a:latin typeface="Times New Roman"/>
                <a:ea typeface="DejaVu Sans"/>
              </a:rPr>
              <a:t>Laboratorio di Human-Computer Interaction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 u="sng">
                <a:solidFill>
                  <a:srgbClr val="3333cc"/>
                </a:solidFill>
                <a:uFillTx/>
                <a:latin typeface="Times New Roman"/>
                <a:ea typeface="DejaVu Sans"/>
              </a:rPr>
              <a:t>- Robotic Games Design -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3C0579-17C4-4949-8653-92F18995DCB1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-19080"/>
            <a:ext cx="567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Hardware occorrente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836640"/>
            <a:ext cx="813744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5960" anchor="t">
            <a:noAutofit/>
          </a:bodyPr>
          <a:p>
            <a:pPr marL="341280" indent="-34128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Hardware occorrente per la realizzazione del gioco: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obot autonomo mobile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Telecamera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Fila di 4 led rossi 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Fila di 4 led blu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Emettitore di raggi infrarossi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ensori di prossimità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Lettore RFID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Controller WiiMote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Giubbotto e cavigliera per il giocatore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dentificatore waypoint e case base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Led piani verdi (waypoint), rossi (casa base)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FID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Unità di elaborazione esterna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Comunicazione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1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nterfaccia Bluetooth (WiiMote e Unità di elaborazione esterna)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51"/>
              </a:spcBef>
              <a:buSzPct val="102950"/>
              <a:buBlip>
                <a:blip r:embed="rId1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nterfaccia WiFi (Robot e Unità di elaborazione esterna)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8"/>
          <a:stretch/>
        </p:blipFill>
        <p:spPr>
          <a:xfrm>
            <a:off x="785880" y="71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836640"/>
            <a:ext cx="8209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C40ECC-385C-4369-BB41-DCB9C765DF9E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1955880" y="-19080"/>
            <a:ext cx="567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Demo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83664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>
              <a:lnSpc>
                <a:spcPct val="98000"/>
              </a:lnSpc>
              <a:spcBef>
                <a:spcPts val="499"/>
              </a:spcBef>
              <a:tabLst>
                <a:tab algn="l" pos="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85688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85688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85688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85688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4240" y="71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236000" y="4438800"/>
            <a:ext cx="1525320" cy="179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5013360"/>
            <a:ext cx="1224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5084640"/>
            <a:ext cx="936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229360"/>
            <a:ext cx="36036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870120" y="5661000"/>
            <a:ext cx="14425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Casa Base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49" name=""/>
          <p:cNvSpPr/>
          <p:nvPr/>
        </p:nvSpPr>
        <p:spPr>
          <a:xfrm rot="8880000">
            <a:off x="1832040" y="3952440"/>
            <a:ext cx="3417840" cy="432000"/>
          </a:xfrm>
          <a:custGeom>
            <a:avLst/>
            <a:gdLst>
              <a:gd name="textAreaLeft" fmla="*/ 533880 w 3417840"/>
              <a:gd name="textAreaRight" fmla="*/ 3360960 w 3417840"/>
              <a:gd name="textAreaTop" fmla="*/ 171720 h 432000"/>
              <a:gd name="textAreaBottom" fmla="*/ 26028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8586"/>
                </a:moveTo>
                <a:lnTo>
                  <a:pt x="19844" y="8586"/>
                </a:lnTo>
                <a:lnTo>
                  <a:pt x="19844" y="0"/>
                </a:lnTo>
                <a:lnTo>
                  <a:pt x="21600" y="10800"/>
                </a:lnTo>
                <a:lnTo>
                  <a:pt x="19844" y="21600"/>
                </a:lnTo>
                <a:lnTo>
                  <a:pt x="19844" y="13014"/>
                </a:lnTo>
                <a:lnTo>
                  <a:pt x="3375" y="13014"/>
                </a:lnTo>
                <a:close/>
              </a:path>
              <a:path w="21600" h="21600">
                <a:moveTo>
                  <a:pt x="0" y="8586"/>
                </a:moveTo>
                <a:lnTo>
                  <a:pt x="675" y="8586"/>
                </a:lnTo>
                <a:lnTo>
                  <a:pt x="675" y="13014"/>
                </a:lnTo>
                <a:lnTo>
                  <a:pt x="0" y="13014"/>
                </a:lnTo>
                <a:close/>
              </a:path>
              <a:path w="21600" h="21600">
                <a:moveTo>
                  <a:pt x="1350" y="8586"/>
                </a:moveTo>
                <a:lnTo>
                  <a:pt x="2700" y="8586"/>
                </a:lnTo>
                <a:lnTo>
                  <a:pt x="2700" y="13014"/>
                </a:lnTo>
                <a:lnTo>
                  <a:pt x="1350" y="1301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205000"/>
            <a:ext cx="12240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2276640"/>
            <a:ext cx="936720" cy="50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2421000"/>
            <a:ext cx="36036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2709720"/>
            <a:ext cx="122400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7812000" y="2781360"/>
            <a:ext cx="936720" cy="503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8099280" y="2925720"/>
            <a:ext cx="36036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2924280"/>
            <a:ext cx="792000" cy="288720"/>
          </a:xfrm>
          <a:custGeom>
            <a:avLst/>
            <a:gdLst>
              <a:gd name="textAreaLeft" fmla="*/ 75240 w 792000"/>
              <a:gd name="textAreaRight" fmla="*/ 716760 w 792000"/>
              <a:gd name="textAreaTop" fmla="*/ 96840 h 288720"/>
              <a:gd name="textAreaBottom" fmla="*/ 1918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7240"/>
                </a:moveTo>
                <a:lnTo>
                  <a:pt x="15361" y="7240"/>
                </a:lnTo>
                <a:lnTo>
                  <a:pt x="15361" y="0"/>
                </a:lnTo>
                <a:lnTo>
                  <a:pt x="21600" y="10800"/>
                </a:lnTo>
                <a:lnTo>
                  <a:pt x="15361" y="21600"/>
                </a:lnTo>
                <a:lnTo>
                  <a:pt x="15361" y="14360"/>
                </a:lnTo>
                <a:lnTo>
                  <a:pt x="0" y="14360"/>
                </a:lnTo>
                <a:lnTo>
                  <a:pt x="2057" y="10800"/>
                </a:lnTo>
                <a:lnTo>
                  <a:pt x="0" y="724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 rot="11280000">
            <a:off x="2268000" y="2636640"/>
            <a:ext cx="2664000" cy="288720"/>
          </a:xfrm>
          <a:custGeom>
            <a:avLst/>
            <a:gdLst>
              <a:gd name="textAreaLeft" fmla="*/ 253440 w 2664000"/>
              <a:gd name="textAreaRight" fmla="*/ 2410560 w 2664000"/>
              <a:gd name="textAreaTop" fmla="*/ 96840 h 288720"/>
              <a:gd name="textAreaBottom" fmla="*/ 1918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7240"/>
                </a:moveTo>
                <a:lnTo>
                  <a:pt x="15361" y="7240"/>
                </a:lnTo>
                <a:lnTo>
                  <a:pt x="15361" y="0"/>
                </a:lnTo>
                <a:lnTo>
                  <a:pt x="21600" y="10800"/>
                </a:lnTo>
                <a:lnTo>
                  <a:pt x="15361" y="21600"/>
                </a:lnTo>
                <a:lnTo>
                  <a:pt x="15361" y="14360"/>
                </a:lnTo>
                <a:lnTo>
                  <a:pt x="0" y="14360"/>
                </a:lnTo>
                <a:lnTo>
                  <a:pt x="2057" y="10800"/>
                </a:lnTo>
                <a:lnTo>
                  <a:pt x="0" y="724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874440" y="2924280"/>
            <a:ext cx="146088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Way point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7427520" y="3500280"/>
            <a:ext cx="146088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Way point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1268280"/>
            <a:ext cx="1927440" cy="2310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9480000">
            <a:off x="6460920" y="1770120"/>
            <a:ext cx="323640" cy="3093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156360" y="558972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364000" y="5589720"/>
            <a:ext cx="676440" cy="608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6877080" y="5589720"/>
            <a:ext cx="617400" cy="61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675400" y="5229360"/>
            <a:ext cx="14382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Armi disponibili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907920"/>
            <a:ext cx="1368360" cy="36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64000" y="981000"/>
            <a:ext cx="1079280" cy="216000"/>
            <a:chOff x="3564000" y="981000"/>
            <a:chExt cx="1079280" cy="216000"/>
          </a:xfrm>
        </p:grpSpPr>
        <p:sp>
          <p:nvSpPr>
            <p:cNvPr id="168" name=""/>
            <p:cNvSpPr/>
            <p:nvPr/>
          </p:nvSpPr>
          <p:spPr>
            <a:xfrm>
              <a:off x="3564000" y="98100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51280" y="98100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98100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7640" y="98100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19640" y="1341360"/>
            <a:ext cx="1368360" cy="36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125360"/>
            <a:ext cx="1008000" cy="7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1484280"/>
            <a:ext cx="936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1725480" y="907920"/>
            <a:ext cx="13878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Handicap robot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1610640" y="1341360"/>
            <a:ext cx="1544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  <a:ea typeface="DejaVu Sans"/>
              </a:rPr>
              <a:t>Stato puntamento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64000" y="1413000"/>
            <a:ext cx="1079280" cy="215640"/>
            <a:chOff x="3564000" y="1413000"/>
            <a:chExt cx="1079280" cy="215640"/>
          </a:xfrm>
        </p:grpSpPr>
        <p:sp>
          <p:nvSpPr>
            <p:cNvPr id="178" name=""/>
            <p:cNvSpPr/>
            <p:nvPr/>
          </p:nvSpPr>
          <p:spPr>
            <a:xfrm>
              <a:off x="3564000" y="1413000"/>
              <a:ext cx="216000" cy="215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1280" y="1413000"/>
              <a:ext cx="216000" cy="215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1413000"/>
              <a:ext cx="215640" cy="215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27640" y="1413000"/>
              <a:ext cx="215640" cy="215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3399"/>
                </a:solidFill>
                <a:uFillTx/>
                <a:latin typeface="Trebuchet MS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6AC888-5B9E-4550-9C75-E6238D3C167A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1955880" y="-19080"/>
            <a:ext cx="567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RoboWII 2.1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83664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Grazie per la cortese attenzione…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14240" y="71280"/>
            <a:ext cx="57168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C45AFB-3897-46FC-9479-D02E9B336961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1955880" y="-19080"/>
            <a:ext cx="567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Indice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83664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copo del lavoro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Descrizione del gioco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Obiettivi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egole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nterfaccia utente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Funzionalità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Altre interazioni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nterfaccia robot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obot disponibili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nterazioni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Hardware occorrente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Demo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695160" y="42840"/>
            <a:ext cx="63684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5880" y="-19080"/>
            <a:ext cx="567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Scopo del lavoro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83664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ealizzazione di un gioco basato sull’interazione tra un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obot mobile autonomo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(Rovio / Spyke)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giocatori uman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(muniti di Wii Remote).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072A40-7B35-4336-9A49-CC39104BF104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493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2320920" cy="273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2735280" cy="232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940360" y="1952640"/>
            <a:ext cx="3006720" cy="36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618853-7E12-425A-A645-B3349A5FE86B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1785960" y="0"/>
            <a:ext cx="647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Descrizione del gioco – obiettivo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83664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l gioco consiste in una caccia al robot nella quale il giocatore ha l’obiettivo di impedire al robot di raggiungere la propria casa base.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giocatore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tramite la propria arma, rappresentata dal WiiMote</a:t>
            </a:r>
            <a:r>
              <a:rPr b="0" i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deve sparare e colpire il robot fino a fagli perdere tutta la propria energia.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obot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deve raggiungere una posizione preimpostata </a:t>
            </a:r>
            <a:r>
              <a:rPr b="0" i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(casa base)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 senza perdere tutta l’energia.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89120" y="58680"/>
            <a:ext cx="576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836640"/>
            <a:ext cx="81025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5960" anchor="t">
            <a:noAutofit/>
          </a:bodyPr>
          <a:p>
            <a:pPr marL="341280" indent="-341280">
              <a:lnSpc>
                <a:spcPct val="88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nterazione definita dalle regole: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Movimento robot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Diversa velocità in relazione alla stamina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paro del robot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Colpo a segno, il giocatore non può sparare per un determinato tempo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paro del giocatore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Colpo a segno, il robot riceverà un handicap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Armi disponibili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Pistola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Fucile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88000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pada</a:t>
            </a:r>
            <a:endParaRPr b="0" lang="en-US" sz="16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Waypoint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Livello di difficoltà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8D8111-52F5-499E-BCFA-F4A8CE143D87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1643040" y="0"/>
            <a:ext cx="661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Descrizione del gioco – regole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789120" y="58680"/>
            <a:ext cx="576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AC5967-A47F-41D4-83B1-2BC63B0C5B5B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12" name=""/>
          <p:cNvSpPr/>
          <p:nvPr/>
        </p:nvSpPr>
        <p:spPr>
          <a:xfrm>
            <a:off x="1714680" y="0"/>
            <a:ext cx="683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Interfaccia Utente - funzionalità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836640"/>
            <a:ext cx="8137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2080" anchor="t">
            <a:noAutofit/>
          </a:bodyPr>
          <a:p>
            <a:pPr marL="341280" indent="-341280">
              <a:lnSpc>
                <a:spcPct val="8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mpiego del controller WiiMote come interfaccia del giocatore.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Particolari movimenti del controller e l’utilizzo dei suoi pulsanti sono stati associati ai seguenti comandi: 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Avviare il gioco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Mirare il robot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parare al robot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icaricare la propria arma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iporre l’arma corrente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Estrarre arma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iavviare il gioco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Modificare livello di difficoltà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88000"/>
              </a:lnSpc>
              <a:spcBef>
                <a:spcPts val="550"/>
              </a:spcBef>
              <a:buSzPct val="100000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Terminare il gioco</a:t>
            </a: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857160" y="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5219640" y="2565360"/>
            <a:ext cx="365616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3F281F-EB3D-460F-9716-D2DDBFA49CF2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1714680" y="0"/>
            <a:ext cx="675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Interfaccia Utente – altre interazioni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83664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Per rendere il gioco più divertente e coinvolgente sono stati inseriti altre interazioni: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Vibrazione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: indica lo sparo dell’arma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uono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: indica il cambio di arma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Led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: indica i colpi disponibili  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14240" y="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804000" y="4653000"/>
            <a:ext cx="1381320" cy="105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877080" y="1773360"/>
            <a:ext cx="1309680" cy="13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877080" y="3213000"/>
            <a:ext cx="1295280" cy="12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F98316-861E-423A-AF08-B6CAA4348862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1716120" y="-19080"/>
            <a:ext cx="6504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Interfaccia robot – robot disponibili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836640"/>
            <a:ext cx="813744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E’ possibile scegliere due differenti tipi di robot 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Rovio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	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97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Olonomico: 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i muove in tutte le direzioni senza limitazioni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Spyke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2" marL="1141560" indent="-227160">
              <a:lnSpc>
                <a:spcPct val="97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Non olonomico: </a:t>
            </a:r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1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ha alcune limitazioni nel movimento</a:t>
            </a:r>
            <a:endParaRPr b="0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85880" y="7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5148360" y="3860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281016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66600" y="6300720"/>
            <a:ext cx="677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4C8089-FAB8-476E-8C60-BE22D67182C4}" type="slidenum"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  <a:ea typeface="DejaVu Sans"/>
              </a:rPr>
              <a:t>&lt;number&gt;</a:t>
            </a:fld>
            <a:endParaRPr b="0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1955880" y="-19080"/>
            <a:ext cx="567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616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3333cc"/>
                </a:solidFill>
                <a:uFillTx/>
                <a:latin typeface="Trebuchet MS"/>
                <a:ea typeface="DejaVu Sans"/>
              </a:rPr>
              <a:t>Interfaccia robot - interazioni</a:t>
            </a:r>
            <a:endParaRPr b="0" lang="en-US" sz="28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836640"/>
            <a:ext cx="82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720" anchor="t">
            <a:no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Il robot scelto, per fornire le proprie informazioni, è dotato di led luminosi e colorati per indicare:</a:t>
            </a: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4 led rossi -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handicap del robot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1240" indent="-284040">
              <a:lnSpc>
                <a:spcPct val="97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4 led blu -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  <a:ea typeface="DejaVu Sans"/>
              </a:rPr>
              <a:t> stato corrente del puntamento </a:t>
            </a: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85880" y="71280"/>
            <a:ext cx="64296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2556000" y="4834080"/>
          <a:ext cx="4716360" cy="1382400"/>
        </p:xfrm>
        <a:graphic>
          <a:graphicData uri="http://schemas.openxmlformats.org/drawingml/2006/table">
            <a:tbl>
              <a:tblPr/>
              <a:tblGrid>
                <a:gridCol w="1177920"/>
                <a:gridCol w="3538440"/>
              </a:tblGrid>
              <a:tr h="27612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DejaVu Sans"/>
                        </a:rPr>
                        <a:t>Led accesi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DejaVu Sans"/>
                        </a:rPr>
                        <a:t>Effetto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12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1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Piccolo abbassamento stamina robot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12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2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Discreto abbassamento stamina robot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3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Buon abbassamento stamina robot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756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4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Abbassamento livello energia robot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160720" y="2276640"/>
          <a:ext cx="5408640" cy="1658520"/>
        </p:xfrm>
        <a:graphic>
          <a:graphicData uri="http://schemas.openxmlformats.org/drawingml/2006/table">
            <a:tbl>
              <a:tblPr/>
              <a:tblGrid>
                <a:gridCol w="1193400"/>
                <a:gridCol w="4215240"/>
              </a:tblGrid>
              <a:tr h="27144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DejaVu Sans"/>
                        </a:rPr>
                        <a:t>Led accesi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it-IT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DejaVu Sans"/>
                        </a:rPr>
                        <a:t>Handicap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Nessuno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Nessuno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180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Primo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Diminuzione velocita max movimento sinistro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80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Secondo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Diminuzione velocita max movimento destro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216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Terzo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Diminuzione considerevole max quantità stamina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Quarto led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DejaVu Sans"/>
                        </a:rPr>
                        <a:t>Robot fuori uso, vittoria giocatore</a:t>
                      </a:r>
                      <a:endParaRPr b="0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Nathan</cp:lastModifiedBy>
  <dcterms:modified xsi:type="dcterms:W3CDTF">2009-06-02T19:59:18Z</dcterms:modified>
  <cp:revision>354</cp:revision>
  <dc:subject/>
  <dc:title>Acheronte: Nuovo Flusso di Caronte</dc:title>
</cp:coreProperties>
</file>